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F4F-56B1-43CE-B2A0-5BBD77B7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332-CD1E-4A8A-8218-EEA4C7A2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A8A-5958-414E-B3EF-0C8F4AEE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670-C1B2-4CB8-856D-083D464E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BB9D-014A-40E4-8638-117F6314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70A0-AF1A-46F5-BD03-11F1DE6E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9085-5649-4E68-9F95-2EA0E9F7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35F7-D44C-4AD9-A320-D90F3F71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E52F-9C28-4CD1-84CE-6E65BBD8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CE2F-1775-4F76-8CC3-7537A56A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B158-8415-40CC-A90F-5A89FB50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23C-BACE-4FCC-A23D-866965A0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E0B3-51E3-4B09-9D72-54D4BC52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B0DD-8716-4A9E-9034-88BC1AED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302A-4EA2-44B3-9C36-DF524ABD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C72F-D8C7-4D7E-9594-4384FE6B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CCD8-EE45-4FE4-A7BC-36308939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9BAB6-31B0-4CA7-A7F7-1D79F709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9BAFE-4CDC-4936-8157-C7803678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5B22A-886F-41DC-9D64-38224340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52B76-7C1E-42DF-B3F5-FC28633F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F3F86-2FE5-4AD1-BA20-0AAC79A4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EA3-2593-4170-A196-F0A203FE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22EE-60CC-4AFF-94E4-AC34BF33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B32CC-6637-49BB-BD44-C6DE976E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E1DB1-01EC-433C-AF73-417A4A7A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C233-EAA4-411A-9061-C4D302BD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5B9B-43E0-49E0-B888-52245ADB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E731-4666-451B-9AFE-044B71BD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552C-1D4E-4F5A-89C2-EED7FA8F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0EFBB-BA3C-4517-972F-0191617F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077C8-7579-423B-AFC4-6213D8CA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E2607-E9DE-4B54-99C2-22183126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B57-9F62-4FAC-82EA-37FD62C8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9319-FB4B-4956-804F-9CB56826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9D2E3-D757-4596-8369-18C08F59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1A1DC-BF23-4805-A829-51ECCBD0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A33C2-19E3-4312-896F-9F2690CF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20977-EAC9-4B31-AA64-B5B382E5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29440-1271-4AC3-852B-C9E4D1A5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D974C-9401-467A-9AD0-03FCAC4E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20EB2-22E8-4BAD-B99D-F987D3D2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A00A2-983B-4815-A213-B6316B6D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C39-99B5-4D08-8C52-6BE10B9B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E0D-5498-4D21-B63D-8CB80F7C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143-2E05-4F73-A277-81013CB6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210-015F-4FCC-B5AC-28BC8FA4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137-FB27-4EEC-AAE8-A1A610D0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4232-D60C-4B73-BB9B-78CC6B9C3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2DA4-BA73-42D9-85AD-4FD893B56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210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11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59FE-7AA5-4D31-984D-52B0FA6A7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27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27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0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B7ED-6022-49CD-85B0-6E9F9275C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al Desig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a homework worksheet to practice identifying different kinds of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I find that it helps to try to fit the experiment into the phr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What is the effect of X on Y?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you can do it, whatever went into the space X is your independent variable, space Y is your dependent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 and Mystery Powd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you’ll design procedures and at least start running tests to try to figure out the contents of several mystery powders, based upon your background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:  What will your independent, dependent, and control variables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ystery Powd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Scientific Process questions 1-4 with me before you start collect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everyone in your group is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before we begin: If science doesn’t always go step-by-step like this, why am I asking you 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air Tes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 what a “fair test”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ly design a fai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air Tes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fair test is a test that provides accurate and reliable evidence to help answer the question you’ve as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I want to know if higher temperatures help roses grow.  If I plant some roses in Alaska and some roses in Siberia, will my resul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 me answer my questi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data will reflect reality, but they may not be any goo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 a test have to be in order to be fa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ir Te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desig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ir t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nge only one independent variable at a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ink of all possible control variables, and keep them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se the right instruments to measure your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range everything to make error unlik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Worksheet due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ery Powder Lab due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ll It Floa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in your pairs, what are all the different things that you think could possibly affect whether something will float or sin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ll It Floa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r are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variable/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variable/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ll It Floa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 the rules of a fair test, how do we determine if you’re right about those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ogether with two other tables nearby, get a whiteboard, and brainstorm what you could do (within the constraints of the classroom) to test these predi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ll It Floa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come up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groups, think carefully about these proposals, and make suggestions when they’re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come up with a procedure that everybody agrees is a 100% fair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ll It Floa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do this when we return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ill be responsible for bringing in what material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etermining Volu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s many ways as you can to determine the volume of something.  (Hint: you’ve already used at least 3 in this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ing Bala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use a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use an electronic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ree kinds of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s in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Measurements, observations, and facts are types of dat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riabl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re situations, objects, events, or states that are involved in the experi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y can vary in an experiment, hence, variabl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ependent variabl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s the condition you believe will have an effect on the out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an tell me about an experiment you’ve heard about or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endent variabl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depend on what the independent variable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ou do not directly manipulate them.  What happens to them is the point of the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ing back to the same examples, let’s figure out dependent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rol variabl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re constant across your experimental set-up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You don’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est them.  You want to make sure they don’t mess with your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ld be controlled in our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were to have a test in which I’m looking at the question, “What is the effect of exposure to different heat sources on plant heigh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my independent variable, the thing that doesn’t depend on any other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/are my dependent variable/s, the thing/s whose values will depend on the independent vari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ight some control variable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one: “Which type of corrosive acid dissolves a bean plant most quickl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var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variable/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vari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37:20Z</dcterms:created>
  <dc:creator>Rebecca Stang</dc:creator>
  <dc:description/>
  <dc:language>en-US</dc:language>
  <cp:lastModifiedBy>Rebecca Stang</cp:lastModifiedBy>
  <dcterms:modified xsi:type="dcterms:W3CDTF">2009-09-13T17:13:10Z</dcterms:modified>
  <cp:revision>56</cp:revision>
  <dc:subject/>
  <dc:title>Biology for Friday 1/25</dc:title>
</cp:coreProperties>
</file>